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dt" idx="40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 type="sldNum" idx="42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9C551A-0CD1-4D41-9E5B-00E655293645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投影片編號版面配置區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A15BB3-4F60-4264-8228-E44B0D99FCE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C0E-0350-49C1-9356-5E31271D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92F-4E47-4BBE-ADC3-761B395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5BEEF-E0B6-426B-BF7C-D0FA5115E0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6FED2D-A165-45CC-9C7B-6A1E08D525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A74F6-376F-4521-8EEC-FD0F068E83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4B7B6-9C84-4F6C-B593-552F35AE47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9F47D-06BC-4761-9BB8-4D9038C4EBF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DD708-A68C-478D-BFC6-6AA3429C4E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A7BBC-9543-4C1D-8F7E-EEFABC0807B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29B3F-B650-475B-843C-DC59CE9331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D5ED9-53FC-42DB-AE96-4F8FE2B154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0156-7C63-479A-A79D-F9E82A285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1BF-0A59-4F2C-81D7-94E04E98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FCF9-2306-4E68-8F6E-706D2D58BD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1212-2DED-46D1-9A7A-2A11C44031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4E32-A314-457F-9679-177572B45F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9C1EB-12C3-4941-9B03-E64D83523E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C64D-E326-4B33-B9BE-913E17509C3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16FC7-C804-46FE-8BEA-5CDEBCDF66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4907-FAA5-4A8C-A82B-2052964FA4A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21C1-282E-48F7-9A63-35680E1DDC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9DAF-A979-40BC-914B-8F0979DAAD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D71E-86EF-45CC-BEFE-6E740EC2F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FAF-8742-4559-BB53-C8234C5F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75BA-C0B2-410C-A7F5-62D674BF0D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CB1F73-A18A-48F4-A61C-6D621171FD4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DACB1B-505E-4574-9456-819208E0AD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1D7E9-973D-42D1-8B0B-6CCF741C2E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A46FE9-5F2A-4C23-83E9-CD1F41CEE71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54BBF-B77B-41BC-BC50-6B3D2B0A98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C87859-E4DE-4797-9967-4C66EA2938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CDCFC-B60A-4772-860D-5B0C8FD0AD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1B4367-AC7E-4F67-B5AB-D8167F2CC8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C93B4-14D1-4A05-A40F-CADB1C8E2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23B83-E6FD-4DCA-ACE7-EC84475D58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FFB5D2-7FE1-4F8D-8B9D-1F959520A4C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16B84-FE1C-454D-8FCF-819B02E48D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F153A5-352E-416B-AF21-B5A4F688399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D0E64-4D6C-402C-9BB6-C62443DCF1E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66BC6-1C13-48DD-9646-A1E1ED7B36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E496C-D620-4D73-98E9-95E51A276A6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AF3FD-F75A-412B-8B1E-B539175789F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D08FD-90CB-441E-B0EF-516864E9E0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080B3-DF77-4075-8BDD-333E934BFA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9AEBA-0FAC-4A26-B4C4-13ADF14019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C2B21-847A-48CE-B924-6DBA352F6E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B6FEA-6AA1-40E1-88E2-32C76B69C2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D4528-CB99-40FE-955F-66A057A915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CB389-A1AD-439B-9A2B-02723590B59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77D4E-8CF3-4D4E-B623-E241E44C36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55415-76F7-410C-9F37-3F3E16800F3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11D4-C52C-48E1-A296-A28C362192A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7F1B-0851-48A0-A630-D2D7FABADE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959C-819F-4EA7-A2D8-62248888C7A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144C-6F85-40A9-B8F1-2410699856F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9B398-D0F1-4889-B688-3642E234BD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10789-6CDB-412D-9444-A44E1E5639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F63E-E24D-45AC-A3B8-C401CD26284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24DB-68F7-41AA-873C-6D12C83EFBA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205E-FFC2-4E73-B9EC-271F952ED83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F9CF-6002-4FDC-8010-CC331BA60B4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27FD5-9F61-4AF5-87E4-6F85D60B974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5A44-5A6E-4AC6-B543-33F6A5F6A3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1797-E8C7-4411-B77E-AD6D6A83318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DE9912-A3C1-4671-AE55-0EE7BCD5EFA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6CB930-79A7-422C-9C44-B2897258852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8BA9F-2F79-49CC-9AA5-0B40EBAA70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50D9-925E-4B37-9191-CD07E3C0D49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1C7A9-6637-4387-AEAF-757C66997EF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12A983-5F46-4D79-BF7C-097AC2A8D8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E0D79F-0C1A-48A1-A9B5-C194AC1FBB8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82E42-3483-49A3-AA9B-771D71D876F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D29A6-49EC-4F19-886C-39B4738029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0F0C4E-CDE5-4F49-87D9-5D961715AD7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BD3F0-0C3F-4E56-B828-E02CD3646AE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FC994-2BEF-44A3-A875-8F9884296FF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FD9B8-17C1-4AAF-9591-13DB7F367EE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7FA95-CE54-4420-B39D-A0428A2B33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3C93A-8E1C-41DA-A7C0-C70847838CA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FCFC6-C87E-49A8-8780-AA6DE495BB2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40EEB-B0B0-4519-880E-B9D11A400B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0BCFA-9D26-4184-9B17-B1C2F3E8BE7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5B0C3-41FC-46F4-B7DD-8775969D05C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07614-6E2A-495F-BD40-A60BC3497EB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0B82A-8DCB-4F89-8958-0738C15E26F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93CF5-D1CA-45C6-9D88-C5273CAAD7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35F16-93FA-4194-8FC5-29D10622BC1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4FE47-4E52-43F9-94EF-31B9FC9164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030EB-88B3-4B4A-9488-1B4E1D4C96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255BD-EC0F-435F-BEC9-ADEC78F8776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4AD08-2D1A-4024-826A-3ECFCE99F7D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119D-A294-4236-8938-799315F6875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79FA9-70E7-4EDC-B8E8-421465B1EC5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A099-412F-4180-A152-00BC2ED878A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69347-4D9F-4F8B-A431-F9679F78898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BB2B-77E7-4B4F-B8B8-DAECD0C785F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DDCAB-A2E1-4183-89E3-A9511DB3695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6B9F-C587-4086-AA0D-4C99F95249B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EF36-1A97-4D4F-80DB-F976639280B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4A1D-B558-4EED-B688-618A7B9BE2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100D5-7F43-4A0D-A92A-F7C4A0F0916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5B17F-67E5-40DF-84E6-D49080AD382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05312-BF54-4640-B72C-950325891C1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5A6B8-83F4-44D0-B893-37A30D4934F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3B951-546B-44A9-A297-4144683FCEE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3A9A9-38F1-4D80-B807-16C76385C07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279AE-472C-4B9E-8CF1-8C965481C29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179A14-CFE3-41AE-948E-52AC66AB011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CBCCF-86E7-4EFB-AF0D-1850D11C17C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08E051-6C3F-48BE-B266-613F35BB36C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368625-D93F-4AF8-84AA-4855093A5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D1C-DA4C-49D0-ACDF-7512A437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13B8-42EE-49C9-83F7-FFFECC76A6B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34E649-F4E3-4E35-A11D-C95B07647A2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50FADA-5D87-49C3-BDD5-567A73CBF4E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B751C5-486A-4240-95C3-A2B3958CC1B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E881E3-E551-41B7-97FD-3E4307A029A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1F759-4710-41DF-B2A9-8BF5FB6A3D3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D3E83-E075-41DA-81B7-A9833EA413B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C79E7-E68F-42F6-821B-2646A011030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ACD38-3A8B-4BAB-8F4C-9BF346BFBD1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E094B-258E-491A-8913-1CB3EFDD57B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C906A-D71C-4ECB-A254-3D91825C08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E5614-856F-4196-9CFB-A2DADA7CB25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8C53F-15A1-4AAB-9617-2E842473EF7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6E362-CC10-4544-B2CF-21F854CB0F8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C5980-89B0-4594-A0F1-FBCFBD36548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AB9D3-45C3-4AF5-B385-48EF7366439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40D3B-DF88-4C3A-9E58-85798D253A5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7A771-32BC-4DBD-BC94-898CFC94013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629FB-88E2-4753-A754-25D0F40D869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CB2BA-AF49-474A-BEC5-81CA043215F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3E346-7F6B-4AC9-BBBB-234310BE313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D9A1A-6701-45DE-9878-E2718629DE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E2A42-421E-46F8-AAF1-25AAA92C212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C37A-D80E-4AFE-A475-DE0C90AE38E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DB92C-4C45-43E5-84DC-65973DCBEC3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6CC67-6DF6-44F3-AF9D-224ABA79FF7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186C-771C-478C-AD0D-EBFF59D6669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2E3F2-09F4-411F-B4B1-B052389A216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C989-CAF6-46B4-9C33-FA3EC3349E0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9DA3A-0A91-4C4A-9E8B-FBF52D87754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1AC9-2E87-44C8-8A3E-EC4974BD76E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FCD03-EBF3-460F-B595-52193CFBBE6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01D4F5-2DE9-4965-ABA3-6F6CC97998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E51F8-7D90-49DF-9427-2D7F56CBACD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4EF1C-8479-41D9-98D2-9AAE6D2F2B8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6D67AF-E9C2-46EE-9A78-35ADF2B1DCA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86ACED-A6B7-4429-878C-E519D9F42BC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FB0DE3-B7FC-4CCE-8343-C5429E4B45C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7E1248-576B-4229-8E63-E92DD248060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66D38C-8FC5-44F6-8319-705993D4A2D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7F5FA7-930C-40BD-ACF3-221F37D4C07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A5111A-0152-420E-ABC3-257AFEE9707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3AB44F-C000-4AD3-B12F-49EB6262DAD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B3F4C-8AB6-42B5-AC20-1F000AFCC8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288A0-D0AC-46CA-8112-43E64F95AB6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0B0AF-B546-431F-8DDF-73043788DEA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52EED-6FE0-4B99-9558-C56856FF1A8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48A08D-9C03-4ABE-8DC3-0D8D21FB16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49747-57E4-4F16-8F68-AFA19C7E301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6C632-A5A3-4BC5-A3D5-D95EBE237DD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05943-B227-484B-BF2E-B44FC071E77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F7460B-1D76-4585-B3A4-3B448CE15FC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8AA2D-7C45-4558-AA2A-E019D7D36A3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B4D81-F0A2-4C93-B932-E517D710A82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354F7D-D256-4B85-BBCF-79F3754D61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082BC-AA95-4A1F-8496-4ED95E5A2E9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9DCBD-F0C5-4E43-B08F-92DBDD72B41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0ABCF-BA22-4A88-8E7C-FD8E3BFC5DF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EBAD3-2BF7-4558-9849-72BDE45A6A7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EBC1A-57F7-451B-9EED-D2B3CA92ADF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03F5-624E-4D0E-AF09-998F3431ECC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427BE-572E-4F60-8762-9ECCA553791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3ADF4-41DC-4056-8274-BD091173719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B661-0BC7-49D3-9A4D-92B216887A1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DFC7D-F6B1-4CBA-8107-A72C3285911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2654-4A5E-41F6-A3C1-81904459FA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FC8D2-002E-4628-916B-51EBB2EECB5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D65D-A18A-40DA-B840-0D7939541EA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7D068-FC8C-42A8-AB02-B47BEAFF92F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4425-0682-4C14-A382-C524AE05DA5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7AB4F-56D2-4589-B64E-F5B74E61DD6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780C5-3254-4300-AD1E-8E88209442D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68391-B502-480C-9B96-7A83D01F2EA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D7F21-570B-4558-838E-706C4A47562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918EF-DAA6-4891-9539-1B41E1243D8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83578-6AA8-4E12-8F28-B5BAF4C188F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ADBE1-64F0-41C9-B896-50ACA0A767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20633-CB95-40A5-B811-AB5F697B2F0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51DC4-DD76-4DEE-8409-A9DD4D379CE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0FB0A-B701-4D23-9643-DED64541991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3B1EC-7AEF-4099-A760-0714282E5CC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C9DF6-72AE-4D68-9724-766A871377D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D577B-19CD-47AE-BA32-CDB554D3F7E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0ECEF-47ED-448B-9B5D-ACEBD5E3078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604F2-65BD-4270-A2F9-D80B64469E4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9581B3-FB59-495C-99EC-08C1DDD4E09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7FC6EB-E309-4B64-A90C-F82E259DD12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B33A41-7098-46E7-8316-E08CF0E38E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639F8-8E92-47B8-A769-989BFFF6489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72D192-60AC-4632-8A0E-D8F1A2FBCD7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68F1A-CB61-4CA6-AB0F-16C4653BF24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780086-B2D1-411B-AE14-82BCA719627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6430BC-AB97-4787-BC5E-B60C98FBD11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0F740F-037E-44A9-8AC4-461A506E66C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038319-E4C1-4D6B-A26D-B08A498F5CE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76EBA-1CE7-4CE8-AA5B-5C6AB06DD6D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D979CC-0873-4557-958A-87421917E46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57050-BAFD-4FA4-9DBC-46B08256F9C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6F37B-FC17-4EB0-8B47-6067B9F60F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8D75-E9F6-46C8-B9AB-B2D3C7F18B7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22C87-D19D-4C93-9E64-B76BEABB980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88FA1-D62C-4D85-82AA-39A2897D8A0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27C45-4331-4030-9482-ADC4E4D30BA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22EA8-CD58-4235-8ACB-C96511EF158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C0CDF-11B0-4451-8336-5C629B152F2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C426-8302-4E88-BAEC-16DD33DFB16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72A0B-535A-4C07-B9C6-D9566D19CF9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D0D59-9FD5-4B86-AC4B-308BB541FBD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5073-EB20-476E-AECF-46955E580A6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E5FEA-CD30-4661-82D3-403DE4693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D2F-6E5D-499E-B686-B71DE4C2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1E9A-A2CD-4C2A-885A-0CA0DDB0432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22B2-C973-44BD-9A66-07BB116A5B3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D63DE-0C21-4C4E-8DB7-7C5C5EE44CE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AB4B7-F3B4-483C-94C5-9F14367D9BA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1A4DC-D85E-4B5C-A12D-592587ABAA9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709A6-A15B-4CEE-B077-13285FA8970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35813-1A21-44B7-A066-1EFC83E0558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F13A7-B939-40CF-86DB-CE0EB676DF5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CB9C0-236F-4D36-B164-02592495FDE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4D12C-E789-46A7-93AE-E882D30ABBC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5790D-7F0D-427F-9406-03FE6A13FF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719A1-90FE-4BDA-B68F-EBD2EC9C615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1371A-4928-4DEC-B030-8B7C5BD76D6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B1AF5-05A5-4ACF-8EBD-D26470BDF15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F709C-8C71-4109-AECE-6F1256392D4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E884EA-0775-4884-B3DD-A965D71EA99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2649AA-6BDD-4530-A3CE-F27567C13A4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E176E4-FBC8-4383-9F76-D79A71630C9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63519-388C-49F6-812E-F6C89B714F0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49859-724A-4FF9-B680-02F5D8E2854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0ABF7-37CC-4508-99D8-A13781E9D1D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CFADDE-94AF-420B-A31E-99B13556FB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2D2AF-1A6C-4B4A-A163-C1186AB76B6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4715EE-5E48-45AB-9628-67B83DFE6AA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E7A15C-1275-4A1E-99D0-2BAEE8CC4FA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57C46-3721-4B0C-AD69-8C7BDA81C7F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1347A6-1ED2-485B-AB6D-73A7A3C873D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73A7D2-B276-4C9C-ABCB-A2F75747A85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EB988-D0AB-4C27-B6B4-BA384BD3ABD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BFAE-4904-4B95-BA76-434B049A07E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745A8-E01C-4CEA-80BF-84E34766D3C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A10F1-1684-40AE-A00D-AF0E3D2E117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6070-5955-4070-A943-408330AA25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1D5AC-23C7-4E80-B170-7A6F68CF74F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6740C-D1D3-4B79-83FE-4F3519BB4DD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0AD03-F203-4117-BD92-4834A1F5A6D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2A0E9-41B5-492D-9BAD-65E13B425C7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2E7FF-E743-4594-A21F-735AA39EEB3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FD989-8423-47EE-A964-525FD4B2AE6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30FBB-B4DB-41C0-A5E0-F289AF9E64A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45215-1B76-44BE-B803-11F11B69D2B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A8F12B-5FB5-4CEF-B093-92580CE637F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E353A9-195F-4992-A3D9-E44ECFF6D9F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5FEE75-0679-4ECC-9F91-3FC8421F11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56069-C165-4345-B26B-83EB572A935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4EB574-EBA7-4359-901A-FA890127F4C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5E781E-8AE6-4802-9F1A-07A5E69A414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352CBC-282E-4545-BFC6-B5E53E56093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0E10AF-EB74-4525-B960-BA10D3C5BC1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CC054A-B9B4-4B42-B884-4D726CC7D790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CC7E73-73F0-4E6E-8D1B-A59C9B05AA7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270914-A226-4081-AD26-20269BA7AAA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20420-F2B1-42CE-B262-771E19F2329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321232-5E10-4816-9236-8DE80D9935A7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3EF4A5-29D7-4197-9085-2D1C7998B0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3AD33-A5EF-486F-9386-EF5693E2F98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827DCD-E024-43D3-9810-98855ED4B03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E73D2D-8A5A-43AF-8A7D-562CDC7E6548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F6FC67-6A4E-46C6-AF34-CF812A364F1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678C0C-B24C-42C3-90B7-43B28550247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0CF28-03B3-432B-9C44-557F55CAF26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CF2808-79A5-499B-A816-6B50D4EE64D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1F988F-3D7A-4647-8F67-31E9B256484E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437CAD-AED4-4F32-8176-027B3C30ED76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D7340B-1960-4881-B8EB-65355169C18F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D8C331-15AE-441A-B934-D261B1441D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6156-DE49-45FF-B15A-29C036B6140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CF1269-2716-400F-B3CC-6FBFCC24ECC9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EF7D1-554D-41EC-831A-67CFACDBA85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C04B2-E1E3-4B55-BCF3-19E294A1226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BA9CA-259D-4796-B0FB-E26450921DA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5DE2C-DCE6-4D0C-A306-F00F24B39A8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9DFB6-D570-4880-AED9-89FC84CD982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A727F-7AD8-4749-978A-DDEF46B9251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41133-FC21-40D9-B72F-126055FFAC1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8876-F9DC-4EA6-B183-06CE353CB5A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93E3B-A00A-432F-9899-3AD756CD34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0EC5-2610-410C-99BB-1D307DA53D49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62CAE-5D22-4E5B-BFAF-C5449CB9295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8AAA1-98AD-4143-9422-23E0B75BF09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A5A19-8AB2-4842-9504-8C553E5FEE5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E4995-78F3-41B1-AEED-BC8D0AE90C7B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BA350-7FB8-457F-936B-F935E7B35CD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7FA7A-4116-47F4-AF08-163545D4B0B1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AF5AC-53DD-4EF3-93A5-B86A16192202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D9B42-4B35-433B-8B45-BD38397782E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90670-ED7D-4BB8-9A66-1D694C98148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BE93F-3CF9-4C71-BD60-4955814E64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305D-879E-4ECA-9057-38447CA4C04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92D1A-1B95-40A4-B18B-54AAA9E5972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BB1CE-8B20-49A4-BE56-1AD4D5C3259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D1B09-E3C8-422D-ACB7-D71C535D4CA4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EB315-500F-410C-A1BD-0A37A97D52DA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2443B-4A97-4D17-B291-B2F16B1B839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D27598-8916-4ED2-BC4E-89863964F61E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FF8BD3-5CFD-4E67-B13F-99CB705616F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2A6E02-6313-439F-9C6B-37D5A4C3F9B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444696-6180-41EF-B86B-4A9B0B61E18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FE0AD8-DC08-46CB-B9F1-F02913E291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4E75-EC41-4708-A1EF-AEFEF5119A3E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2BA120-EBE6-423E-B0B8-8981BB0F7C5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479871-23EB-4BBA-8AA1-E88D90A254F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E96886-026E-4F0D-8E17-73006C35F1DC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ACF48D-3420-4A7E-B97D-8A519C898BB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74F6AD-3277-43C8-B13E-02D9ECC48E3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AF0513-BF9C-422C-A22A-0927581FE67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A2C761-9BF4-4581-AF04-CA5CF892F4C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7165D-E50E-4B48-B04F-3410EEB5463A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5AF8C-7BBC-448D-ADA2-747D12E6470E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8F84D-0B6F-43E8-9A27-68EAD06B3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DF6-FCF8-40FB-A4D4-5E4CAE8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84E-2EFF-4F6A-90B1-4F02788BC287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F24CF-0B26-4216-B296-1D3E3DA0BF2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A528C-CCBF-435C-AE15-04608B43850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97CCD-00AF-499F-B697-4BD6867F6ED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183C1-430D-459C-BF6E-8BD581F68D3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EB2EB-B42D-4128-B410-B43B6368E9B6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01312-5748-4C2A-9CA5-0F67906BAAA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6EC9A-F93E-40F7-9317-8064D65A677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558DE-844D-435B-84AD-13820DC3EBCE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40C50-DA76-4BF9-8D76-122E3D7DCEE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648964-5669-49FC-A279-B9D0303FED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BDBD-BE72-40D6-9BF8-9A5636A265D7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C8FA69-EA35-43BD-A1F9-9E913931295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A1A823-3ADC-439C-84C6-8B9B759A624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423F4D-F665-4FCC-A02F-99DE45C5604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6B848A-3434-46DF-B71C-26650A93215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6CEC9E-0D4E-4C37-90E7-2C33C4D44C8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2E7803-5509-47EA-A6B7-DFC4F3F8247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4D23DF-8FA7-4EE7-A7CF-4AA010B9C2E4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829546-BA2E-468D-AB63-7B90A0551C1E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8F8DE5-194F-4C32-A6B2-C3D40D24657C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BB82E9-6C2A-415A-916D-25FABC471B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0E24-4917-4562-9EEB-CBB58BA21681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772036-E301-4A66-9455-31DDC0CC7B1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3CF05-B9D7-4E71-BE36-D7CC7CD98417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33223C-BD5B-48BF-A45A-C4D85ED73DD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09DC0C-1A9E-495D-9206-FE8804792BC6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9F1BF3-CB44-46DA-B9F7-76F3DE29EAC5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F9F5BC-4AE8-4E36-827F-77BC5456546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1DACF7-5079-4EB3-BFD0-D0923BCB151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EF15DD-D8BC-4AF5-8F20-577C10FAFC0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3D0B20-2920-4D81-87C5-B806F14E2097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3CF55C-908C-4D1F-AED9-632AE38155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08F-21C7-443A-9243-646979CD9CA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2256F-4FF6-4075-B8B4-CE049666C7F8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5C427-BFC3-4D51-B9FD-F93B4EB323E4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A9220E-0AF0-430E-BC63-8AEB33D957AF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40FA5-03E6-489A-8D56-D42FA8027E8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1DC5E-4C61-4FA5-8517-8F1990F62AE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6695F-84F3-4247-9262-65040B6EA83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F1010-0ECB-48EC-89A2-3738A3FA5CC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0781F-5A90-484E-A751-7824A2736EF6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24FA3-4AAA-48CF-93B5-412F3D398B59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74D9F-3FF3-4F2C-9A1F-34EACC7403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855-5A9E-4E5F-8FF4-19F8AC073134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92AEE-5FCC-4AA9-8C93-64E32198449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8A907-2624-49A6-856F-D46BA6DD924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231DB-5DF8-4628-8162-7007200D0E7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92A8F-B9C6-49D1-93D4-D0FABEA3B5B0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71D8D-5F51-480D-B2EF-AAA7BD4000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118A-C05C-4A8E-AC36-E6878B6583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73F9-9349-4135-8BCC-9F21A9D0CD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233A-FDEF-4EEB-836F-396BDAD8D6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1C4-D8BA-4434-AF22-72940CD4C0F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4180E-2A6D-418B-BE4C-D58D0CCCB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B8B-5062-4123-95AD-D6EF23C4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BE048-7FE9-4405-83B8-F16D3CE6DB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97E33-891E-4099-9F08-E74A83588E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78D57-3B82-4856-8219-9B5D17D156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742F9-2568-4A10-A2C2-83A7F31EC7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1E0AF-FECA-4328-8F1E-AD73C47A51E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2AB8C-8F60-4CC5-B810-F19C3608AA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C71E8-A8CA-4F4C-96DD-80C07F7615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CABD1-C961-4E50-B651-21166646A2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E65C1-D2C5-4113-B4F1-CE4871E423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B4EEB-7731-47B1-AFEF-3CC4FCB98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183-1A25-4292-8A80-9EB58CA5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949D3-3E4F-4E8C-8A7F-88280601D4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25641-AF54-4206-8DE8-662E882A33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EC625-136C-4684-A5D2-E6B58EB400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83334-DE50-47C7-BD70-F2FBF9D4C1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CD12C-826D-403A-B43B-003152AE79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0F250-089E-42E1-A1FE-5443ABA2D6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75B49-7D37-47E6-9C4E-985F56D98D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D718B-BADC-4713-ABA3-E383A62F82B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4C188-5A00-4F19-BD6D-C1D782D8B8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CF674-7320-4F9F-90C4-CA78C496A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4A4-41C4-4E5C-A49A-E6CEC5F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9D725-23C4-4660-B529-8B57B30E96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6E8C7-535F-4E1F-BF28-03023F1276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377EA-6FD9-4628-8BFE-16EB0B9E10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004E-B093-4C44-9DD3-ED0647A784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A6CC-A741-4624-A2CC-233438A329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FE79-D833-4982-B87B-BB9E19EA63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B06A-DDB8-488D-99C5-91B563CFDF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6366-A695-4CE1-86EF-D55049842F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E00D-C3B7-4F95-9305-5ECC4182D08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3785-9BAB-4267-A21A-20519977D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7B1-3994-485E-9B5B-B509CD8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A09B-D347-4A3A-B911-EFA526F819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3B52-57BA-4052-BD00-9B2B055377D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1B2E-EB5B-4D7B-A735-FF14EBCFC8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880F-771F-40BD-92B8-7384265112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82D5-719D-4AB5-9243-55D18439398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BF802-4386-42DE-BD1D-222FDF7530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850C7-0468-44C3-9B2D-2F8666BCEB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99AF0-0092-48DB-AC79-A9D705681C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42015-DCC9-47B2-80F1-6124A9E8AF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677CB-2C3B-4CC2-AAEC-25946AF73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D20-EFBF-4061-95EF-1EA82E4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1D9ED-54C0-484F-95FC-2D1FD82E74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539D7-C580-479D-8E1D-07F70A47DD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AB04F-F8D2-4F43-B3DB-3DF3CBCE5B8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A1BE4-73ED-446A-BF99-407EDDFBEF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02FBA-9630-4951-B2FB-18A36A44B0A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6B0D3-EE84-4696-BA59-4894CF4739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C7FDC-C9CB-4934-8406-A6355FD354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A7D24-DD91-4C68-9F01-4AC169699E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EB67B-CE98-4836-92B7-55336119CB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751CB-FA95-414F-9519-FD2465A15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0969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439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46D0-3D99-470B-8CF3-2E85AF82518C}" type="datetime"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3F2E-1CB7-4295-86F9-4C2809C6C0F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710480" y="5506920"/>
            <a:ext cx="1122480" cy="1351080"/>
            <a:chOff x="7710480" y="5506920"/>
            <a:chExt cx="1122480" cy="1351080"/>
          </a:xfrm>
        </p:grpSpPr>
        <p:pic>
          <p:nvPicPr>
            <p:cNvPr id="7" name="Picture 9" descr="健康署LOGO-OK-01"/>
            <p:cNvPicPr/>
            <p:nvPr/>
          </p:nvPicPr>
          <p:blipFill>
            <a:blip r:embed="rId2"/>
            <a:stretch/>
          </p:blipFill>
          <p:spPr>
            <a:xfrm>
              <a:off x="7710480" y="5506920"/>
              <a:ext cx="11224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文字方塊 1"/>
            <p:cNvSpPr/>
            <p:nvPr/>
          </p:nvSpPr>
          <p:spPr>
            <a:xfrm>
              <a:off x="8506080" y="5580000"/>
              <a:ext cx="2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0323-B8FF-497B-AA36-A3DA1E5ED4B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3B34-1A0D-4A09-BF17-FA3ABB8EBA1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333-6383-4E46-9ECB-43E55CE524E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FF6B-6A8D-4272-B78A-F1F0A301070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CE91-DA32-48E9-9FB7-CBC1D2AFD4D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370-88C8-4334-9B7A-9E37D96A7EE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4875-0F54-4CE1-BE86-A0618B3EB90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6679-C4FF-4D37-9771-9ECE7406AA7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687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689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2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2EB8-D383-4399-941E-619835F82F4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32C-F9FB-40D9-AA4D-267C44774FD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50DB6-4182-4CD7-AB5D-D17606C1470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9A51-C568-4119-87FC-8411B1EBA1F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67E-306B-402F-9068-DC0593C79F8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2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451-8455-45C1-B258-07D01F12FC6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093A-0448-4C98-BBEE-02AA15016E4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Num" idx="2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42CC-A163-4834-ACDA-05EC68A60CC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sldNum" idx="2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4583-4E75-4589-905A-EBAC7406753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2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C30E-A25C-4426-AC1F-C9A28B49C5D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2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2F28-4C5F-479D-8C49-BA5E8E3CC62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3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0C24-3901-4332-814E-925E03186FD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1131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1133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sldNum" idx="3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8C8-263C-4A22-B142-FEE6E6844C4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65766-82F9-4AAD-8C0D-B53291099FC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sldNum" idx="3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9F76-38D5-45CF-98E9-59592CBA628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3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B7BC-351A-46A5-92C6-710B8572C8E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3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5DB-A1A6-4E9C-B475-BD550FFF2F3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Num" idx="3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8707-80E0-4802-BD05-1064ABE6FC5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3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19A-3F65-494D-9556-438072AA540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sldNum" idx="3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B197-9C27-4F3D-9F90-216E32B9748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Num" idx="3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574-BC10-4822-A285-3E51DEBB7CE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sldNum" idx="3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0B74-65FF-47D9-A2A5-AAFDE94E2E2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57C7B-5908-473D-AC14-896139C2E5E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B15F-A441-4BF5-BC38-96063F2192B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8840-BBCD-417B-A49A-6888E52F45F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243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245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F48F-462F-4075-8D9B-975BEF55897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33D4-2CD2-48FC-BB14-CCCD7A862F3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409A-C05A-4414-9D5D-B5D9BB2FA8C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60" y="2865240"/>
            <a:ext cx="734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年地方衛生機關業務考評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保健類指標規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2274480" y="4597200"/>
            <a:ext cx="56912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衛生福利部國民健康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8BF0-F55E-4D56-915C-751CF5566C4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7D83-47C9-454F-91B6-837DAA1D644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93600" y="1197000"/>
          <a:ext cx="8836200" cy="4946760"/>
        </p:xfrm>
        <a:graphic>
          <a:graphicData uri="http://schemas.openxmlformats.org/drawingml/2006/table">
            <a:tbl>
              <a:tblPr/>
              <a:tblGrid>
                <a:gridCol w="2778120"/>
                <a:gridCol w="441360"/>
                <a:gridCol w="2567160"/>
                <a:gridCol w="438120"/>
                <a:gridCol w="261144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1432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302920"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品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疫苗校園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偵測率成長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組織性篩檢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以大腸癌為篩檢重點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校園宣導」指標，提倡國一女生施打子宮頸癌疫苗，免受子宮頸癌威脅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防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健康危害防制之規劃及推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成人嚼檳榔盛行率指標並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2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0DE-7AFA-4FEB-A046-3B90AF80AD9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12600" y="1052640"/>
          <a:ext cx="8964720" cy="5194080"/>
        </p:xfrm>
        <a:graphic>
          <a:graphicData uri="http://schemas.openxmlformats.org/drawingml/2006/table">
            <a:tbl>
              <a:tblPr/>
              <a:tblGrid>
                <a:gridCol w="2946600"/>
                <a:gridCol w="654120"/>
                <a:gridCol w="2619360"/>
                <a:gridCol w="653760"/>
                <a:gridCol w="209088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3503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「營造母嬰親善的哺乳環境」中新增「</a:t>
                      </a:r>
                      <a:r>
                        <a:rPr b="0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母乳哺育之醫護人員教育訓練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，以期醫護人員能有效教導婦女增加總母乳哺育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兒童疑似異常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分數級距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A30B-C35A-4DEB-8423-6DE65B41428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標題 2"/>
          <p:cNvSpPr/>
          <p:nvPr/>
        </p:nvSpPr>
        <p:spPr>
          <a:xfrm>
            <a:off x="57456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健康好幫手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  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守護國民  促進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內容版面配置區 2"/>
          <p:cNvSpPr/>
          <p:nvPr/>
        </p:nvSpPr>
        <p:spPr>
          <a:xfrm>
            <a:off x="4421160" y="1906560"/>
            <a:ext cx="47228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標楷體"/>
              </a:rPr>
              <a:t>促進健康 </a:t>
            </a:r>
            <a:r>
              <a:rPr b="1" lang="en-US" sz="3200" spc="-1" strike="noStrike">
                <a:solidFill>
                  <a:srgbClr val="cc0000"/>
                </a:solidFill>
                <a:latin typeface="Bauhaus 93"/>
              </a:rPr>
              <a:t>Pro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預防疾病 </a:t>
            </a:r>
            <a:r>
              <a:rPr b="1" lang="en-US" sz="3200" spc="-1" strike="noStrike">
                <a:solidFill>
                  <a:srgbClr val="006600"/>
                </a:solidFill>
                <a:latin typeface="Bauhaus 93"/>
              </a:rPr>
              <a:t>Prev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</a:rPr>
              <a:t>安全防護 </a:t>
            </a:r>
            <a:r>
              <a:rPr b="1" lang="en-US" sz="3200" spc="-1" strike="noStrike">
                <a:solidFill>
                  <a:srgbClr val="000099"/>
                </a:solidFill>
                <a:latin typeface="Bauhaus 93"/>
              </a:rPr>
              <a:t>Prot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</a:rPr>
              <a:t>共同參與 </a:t>
            </a:r>
            <a:r>
              <a:rPr b="1" lang="en-US" sz="3200" spc="-1" strike="noStrike">
                <a:solidFill>
                  <a:srgbClr val="ff0066"/>
                </a:solidFill>
                <a:latin typeface="Bauhaus 93"/>
              </a:rPr>
              <a:t>Particip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Times New Roman"/>
              </a:rPr>
              <a:t>夥伴合作  </a:t>
            </a:r>
            <a:r>
              <a:rPr b="0" lang="en-US" sz="3200" spc="-1" strike="noStrike">
                <a:solidFill>
                  <a:srgbClr val="6600ff"/>
                </a:solidFill>
                <a:latin typeface="Bauhaus 93"/>
              </a:rPr>
              <a:t>Partnersh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群組 4"/>
          <p:cNvGrpSpPr/>
          <p:nvPr/>
        </p:nvGrpSpPr>
        <p:grpSpPr>
          <a:xfrm>
            <a:off x="365040" y="1654200"/>
            <a:ext cx="4413240" cy="4162320"/>
            <a:chOff x="365040" y="1654200"/>
            <a:chExt cx="4413240" cy="4162320"/>
          </a:xfrm>
        </p:grpSpPr>
        <p:pic>
          <p:nvPicPr>
            <p:cNvPr id="1540" name="圖片 16" descr=""/>
            <p:cNvPicPr/>
            <p:nvPr/>
          </p:nvPicPr>
          <p:blipFill>
            <a:blip r:embed="rId1"/>
            <a:stretch/>
          </p:blipFill>
          <p:spPr>
            <a:xfrm>
              <a:off x="365040" y="4989960"/>
              <a:ext cx="4398480" cy="82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文字方塊 1"/>
            <p:cNvSpPr/>
            <p:nvPr/>
          </p:nvSpPr>
          <p:spPr>
            <a:xfrm>
              <a:off x="2517840" y="3666600"/>
              <a:ext cx="2260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9ec105"/>
                  </a:solidFill>
                  <a:latin typeface="Bauhaus 93"/>
                  <a:ea typeface="新細明體"/>
                </a:rPr>
                <a:t>HP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2" name="圖片 3" descr=""/>
            <p:cNvPicPr/>
            <p:nvPr/>
          </p:nvPicPr>
          <p:blipFill>
            <a:blip r:embed="rId2"/>
            <a:stretch/>
          </p:blipFill>
          <p:spPr>
            <a:xfrm>
              <a:off x="994320" y="1654200"/>
              <a:ext cx="15433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90080" y="480600"/>
            <a:ext cx="8053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大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F9B-90B1-43E3-96C8-3BE05B59C46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5760" y="134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D95-DC66-491B-8598-8CAB8D522CE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4356000" y="1413000"/>
          <a:ext cx="4103640" cy="483228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健康生活環境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老年健康促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9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癌症篩檢與檳榔健康危害防制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婦幼健康促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430200" y="1413000"/>
          <a:ext cx="3781440" cy="4830480"/>
        </p:xfrm>
        <a:graphic>
          <a:graphicData uri="http://schemas.openxmlformats.org/drawingml/2006/table">
            <a:tbl>
              <a:tblPr/>
              <a:tblGrid>
                <a:gridCol w="3781440"/>
              </a:tblGrid>
              <a:tr h="100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8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菸害防制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1752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E821-1EA4-4F4C-91F8-9B2348AB9DE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字方塊 6"/>
          <p:cNvSpPr/>
          <p:nvPr/>
        </p:nvSpPr>
        <p:spPr>
          <a:xfrm>
            <a:off x="747720" y="14130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8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年</a:t>
            </a:r>
            <a:r>
              <a:rPr b="0" lang="zh-TW" sz="2800" spc="-1" strike="noStrike">
                <a:solidFill>
                  <a:srgbClr val="c00000"/>
                </a:solidFill>
                <a:latin typeface="Calibri"/>
              </a:rPr>
              <a:t>指標數量及配分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4" name=""/>
          <p:cNvGraphicFramePr/>
          <p:nvPr/>
        </p:nvGraphicFramePr>
        <p:xfrm>
          <a:off x="539640" y="2276640"/>
          <a:ext cx="7777440" cy="1582560"/>
        </p:xfrm>
        <a:graphic>
          <a:graphicData uri="http://schemas.openxmlformats.org/drawingml/2006/table">
            <a:tbl>
              <a:tblPr/>
              <a:tblGrid>
                <a:gridCol w="1656000"/>
                <a:gridCol w="1224000"/>
                <a:gridCol w="936360"/>
                <a:gridCol w="720720"/>
                <a:gridCol w="1440000"/>
                <a:gridCol w="1008000"/>
                <a:gridCol w="79236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97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B94A-7178-430C-854D-C39A7DB5F2B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108000" y="1171440"/>
          <a:ext cx="8893080" cy="5281920"/>
        </p:xfrm>
        <a:graphic>
          <a:graphicData uri="http://schemas.openxmlformats.org/drawingml/2006/table">
            <a:tbl>
              <a:tblPr/>
              <a:tblGrid>
                <a:gridCol w="2519280"/>
                <a:gridCol w="649440"/>
                <a:gridCol w="2590560"/>
                <a:gridCol w="649440"/>
                <a:gridCol w="24843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52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吸菸率下降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電子煙吸食率下降目標達成情形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另青少年電子煙的吸食率已逐年快速攀升，期縣市納入未來青少年菸害防制重點工作項目，故增加「青少年電子煙吸食率下降目標達成情形」；未來將視該監測調查規劃情形配合修正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3400"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9CAF-F060-485A-97EC-D4927CDE9F3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79280" y="1413000"/>
          <a:ext cx="8859960" cy="4743360"/>
        </p:xfrm>
        <a:graphic>
          <a:graphicData uri="http://schemas.openxmlformats.org/drawingml/2006/table">
            <a:tbl>
              <a:tblPr/>
              <a:tblGrid>
                <a:gridCol w="2484720"/>
                <a:gridCol w="755640"/>
                <a:gridCol w="2520720"/>
                <a:gridCol w="792360"/>
                <a:gridCol w="2306520"/>
              </a:tblGrid>
              <a:tr h="369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5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各縣市加強輔導醫療院所提供之戒菸服務，並提升戒菸成功率，故提高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E428-B745-43C3-BE10-247FF0B468E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128520" y="1268280"/>
          <a:ext cx="8702640" cy="5378760"/>
        </p:xfrm>
        <a:graphic>
          <a:graphicData uri="http://schemas.openxmlformats.org/drawingml/2006/table">
            <a:tbl>
              <a:tblPr/>
              <a:tblGrid>
                <a:gridCol w="2435400"/>
                <a:gridCol w="639720"/>
                <a:gridCol w="2305080"/>
                <a:gridCol w="801720"/>
                <a:gridCol w="2520720"/>
              </a:tblGrid>
              <a:tr h="37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場所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職場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校園二手菸暴露率（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室內公共場所二手菸暴露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8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刪除「公共場所二手菸暴露率」、「職場二手菸暴露率」，增加「青少年校園二手菸暴露率」、「青少年室內公共場所二手菸暴露率」以監測各縣市無菸環境成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加強各縣市計畫目標達成情形，提高其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6BA7-F3EF-4714-8546-1406037A89B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9200" y="620640"/>
          <a:ext cx="9055440" cy="6118200"/>
        </p:xfrm>
        <a:graphic>
          <a:graphicData uri="http://schemas.openxmlformats.org/drawingml/2006/table">
            <a:tbl>
              <a:tblPr/>
              <a:tblGrid>
                <a:gridCol w="2692440"/>
                <a:gridCol w="507960"/>
                <a:gridCol w="2946600"/>
                <a:gridCol w="436680"/>
                <a:gridCol w="24717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1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成年人及長者身體活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天天五蔬果攝取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運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指標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調整為「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「提升天天五蔬果攝取比率」，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社區環境評估、行動改善計畫及成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置社區營養衛生教育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「校園周邊健康飲食輔導示範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職場認證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健康識能推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「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圖像推廣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餐飲業者減鹽行動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廣職場參與健康促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推動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圖像推廣計畫」」及「推動餐飲業者減鹽行動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各項指標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6" name="Rectangle 2"/>
          <p:cNvSpPr/>
          <p:nvPr/>
        </p:nvSpPr>
        <p:spPr>
          <a:xfrm>
            <a:off x="324000" y="-10008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投影片編號版面配置區 1"/>
          <p:cNvSpPr/>
          <p:nvPr/>
        </p:nvSpPr>
        <p:spPr>
          <a:xfrm>
            <a:off x="8675640" y="645336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8905-CA6E-4FD8-9C19-09656D7CCE8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11160" y="260280"/>
          <a:ext cx="9132840" cy="6697800"/>
        </p:xfrm>
        <a:graphic>
          <a:graphicData uri="http://schemas.openxmlformats.org/drawingml/2006/table">
            <a:tbl>
              <a:tblPr/>
              <a:tblGrid>
                <a:gridCol w="2949480"/>
                <a:gridCol w="579600"/>
                <a:gridCol w="3184560"/>
                <a:gridCol w="650880"/>
                <a:gridCol w="176832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老年健康促進相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中老年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及調整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高齡友善社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認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高齡友善社區涵蓋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的認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提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眾對失智症的認知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，以營造失智支持友善環境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尿液微量白蛋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croalbumin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衛生所慢性病防治照護量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民眾對腰圍警戒值認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眼底檢查或眼底彩色攝影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機構推動健康促進服務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高齡友善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成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及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型肝炎篩檢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規劃及推動高血壓防治方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輔導轄區基層診所參與慢性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預防及糖尿病品質照護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為新增「各縣市成人預防保健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肝炎篩檢利用率」、「規劃及推動高血壓防治方案」及「輔導轄區基層診所參與慢性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預防及糖尿病品質照護服務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9" name="Rectangle 2"/>
          <p:cNvSpPr/>
          <p:nvPr/>
        </p:nvSpPr>
        <p:spPr>
          <a:xfrm>
            <a:off x="468360" y="-24300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9:44:09Z</dcterms:created>
  <dc:creator>ST</dc:creator>
  <dc:description/>
  <dc:language>en-US</dc:language>
  <cp:lastModifiedBy>健康服務品質政策辦公室周青慧</cp:lastModifiedBy>
  <cp:lastPrinted>2018-11-19T01:58:33Z</cp:lastPrinted>
  <dcterms:modified xsi:type="dcterms:W3CDTF">2018-11-23T10:17:39Z</dcterms:modified>
  <cp:revision>1966</cp:revision>
  <dc:subject/>
  <dc:title>醫學人文導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